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E5E-F205-421F-9393-3284F8CD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343A-86F7-41B5-9C4C-2903AAD2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DDE4-D29E-48CA-ACD8-70CA6CA9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CFEA-74E4-4A81-95F7-34A30B05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3B9FA-9D96-4772-8872-C243E5E9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18DA-1710-416E-9709-794CDCB3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DADA-AA85-4EAF-BA14-8856814DB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E29F-095A-40E8-A4D2-EFF333B8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E325-50BF-4D41-8C99-190DF613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791E4-7EBA-4AB2-B8F0-68533F89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3A7D-3673-4BF3-A577-A3C5010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096D-7AB7-421D-B3ED-D8261E94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F1BB-3D37-487B-8B37-57094077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B62F-4969-4822-9669-E7F9E7F0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7034-C2F5-4AB3-B295-C1B80106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E1BE-673B-44A5-A5D1-D2F33CDE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4680-DA25-4945-9F70-A8287D82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95A7-88D6-4CF1-BB03-0247DD49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1E307-4EFA-4584-AF21-08710AC4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CAFF6-2873-49DB-815A-9DA3F755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BE28-C9C7-4CA6-BE77-AE1CC58B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CEE9B-EDAF-4E1F-91E9-7CAD9DFD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C87-BDEE-47C8-9DA9-4C8C13A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5ED1-0832-4B56-8CFF-E7A81F8B7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72724-F8BB-441F-8FFA-E9988715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F64E-F6DB-4DBE-B07F-9B5A9416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E53D8-6C22-4DF2-9591-135C7416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5D708-7006-4C56-AF8F-64B3AB0E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10CA2-FE36-45E6-8F6D-5072C323F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B3E8B-3C3E-49D5-83BF-5336209D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68F9-D5AB-4F89-ABDC-5CD4C664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6AE1-5646-442F-A63F-384640248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C2FFE1-FE65-4C22-99D3-20853B19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2E84-DF27-43D6-90CD-70961A06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04BE6-25BF-4818-8505-713D16FD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8EB0-F46D-45E8-B7B9-DCAACFE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3815D-D69B-4004-BBB1-7260C034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32079-64A4-4505-84B5-D74B3E4C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6DC55-7135-405D-9297-7D94A265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B37D7-FD6E-4552-B96D-1637767B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D8F88-FA9F-482C-89F2-1A7DE52BC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A834F-7916-466C-B654-B643859D0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5967F-E232-41BD-80F5-D78A109B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BA504-D13E-4C47-A82E-B2524053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3F3-C491-4F87-AA29-54771043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FFA7-ADC6-4A04-889B-1BCE99E2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0ACA3-E93C-430C-B069-0B2E47A21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2D62-1D5D-4E05-80D4-55E39E4A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87605-0192-4BFA-A02F-8CF096B1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5D0A-2F91-4F22-9BE6-2B583ECA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337E7-0626-49EA-BBC5-D67CF0E5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034CF-C407-4511-AA30-F8D450DD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A0A9C-08B8-407F-AEAC-9598AB6C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31093-774A-4B23-B6DB-B0D5CA27A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F3BC4-4B71-4DD7-B0D0-9A935CDA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955F-4BD5-4D0A-AE23-6CEB67C2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DCD60-9212-4431-8DFC-C1326A22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D8C8F-C884-432B-89FD-CB709962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C2166-F4CB-4C7C-8767-6BDE3644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25B9B-2402-40C7-B92B-3C72E30D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83519-FF25-4912-B16E-CD3F639A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E042-67DE-4ECA-8F30-91A82FBA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3E1D-D871-4C78-9C2B-ACFBF51E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B8A2A-8C05-4304-8809-422E0E37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21CA5-99A8-4408-98DC-F2F7B8ED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EBC41-C3E4-42C6-821A-096B1DAE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AD5F-C4A5-4D0C-B510-C9340174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01D36-5B72-4648-B2FF-3870FAFB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31A66-47EC-4205-B18B-A8F41E296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C50B-10BE-47C1-BBDD-8D0B89F5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90764-091F-4746-8A0C-472036A7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0D155-3AF0-4D8D-B083-1E0EBA18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78716-0893-4041-A744-2A7E7F6C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987C1-780F-41F0-977E-F98D1550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B47EC-FE25-4ACC-BB70-1EE87380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097A28-64D8-4D06-8935-22A24577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672FC-F25E-4547-8601-9291646A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A9B6-E40B-40EB-8C03-5958F892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EE303-CBC5-499A-93F9-2C6EAA07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8BEAE-5414-4EED-BD04-CB7320BE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FF3597-1FD5-403B-9902-7D49491F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B88AC-A63E-4B3C-A66D-2F03AA06F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F4D8C-0B01-4EAF-95BB-8B8B9A6B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5BA7-EE7C-40E1-82D4-7B924E73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27D8A4-4290-4922-86DF-1E544A1A7FA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9A688F-6E67-42FA-95C6-A151C8356DEC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c5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c9ee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769D43-716A-4175-AFA4-CE964866E065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13C93D3-AB22-455C-8598-80AFF1AC2220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c9ee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836866-0A32-4CF6-9E54-6557863FFBBE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83AC2DF-CE9D-48DA-9E15-F0385674882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d6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e587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3e587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4e5b6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88E897-C49A-481C-A591-C56BA07020F4}" type="slidenum">
              <a:rPr b="0" lang="ru-RU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1" descr=""/>
          <p:cNvPicPr/>
          <p:nvPr/>
        </p:nvPicPr>
        <p:blipFill>
          <a:blip r:embed="rId1"/>
          <a:stretch/>
        </p:blipFill>
        <p:spPr>
          <a:xfrm>
            <a:off x="420840" y="512640"/>
            <a:ext cx="8437320" cy="36514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2"/>
          <p:cNvSpPr/>
          <p:nvPr/>
        </p:nvSpPr>
        <p:spPr>
          <a:xfrm>
            <a:off x="107172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Picture 6" descr="https://nz1.ru/wp-content/uploads/posts/2016-08/medium/1472293406_30-interesnyh-faktov-o-kurenii-2.jpg"/>
          <p:cNvPicPr/>
          <p:nvPr/>
        </p:nvPicPr>
        <p:blipFill>
          <a:blip r:embed="rId2"/>
          <a:stretch/>
        </p:blipFill>
        <p:spPr>
          <a:xfrm>
            <a:off x="3419640" y="4221000"/>
            <a:ext cx="2790720" cy="19702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3"/>
          <p:cNvSpPr/>
          <p:nvPr/>
        </p:nvSpPr>
        <p:spPr>
          <a:xfrm>
            <a:off x="468360" y="620640"/>
            <a:ext cx="867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Arial Narrow"/>
              </a:rPr>
              <a:t>Самое пагубное воздействие оказывает курение на детский организм. Курящие ученики отстают в учебе, становятся рассеянными, ленивыми, грубы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543466"/>
                </a:solidFill>
                <a:latin typeface="Arial Narrow"/>
              </a:rPr>
              <a:t>У них ухудшается память, зрение, умственная работоспособность. Они отстают в развитии от своих сверстников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0" name="Picture 6" descr="https://sun9-23.userapi.com/impg/j3wGIBVozZpQpIb99dpevQxdIJH1di0xCIBL2w/cPtJNK-AFVk.jpg?size=1024x677&amp;quality=96&amp;sign=c8af771d341419cff8b1f94696ac135e&amp;type=album"/>
          <p:cNvPicPr/>
          <p:nvPr/>
        </p:nvPicPr>
        <p:blipFill>
          <a:blip r:embed="rId1"/>
          <a:stretch/>
        </p:blipFill>
        <p:spPr>
          <a:xfrm>
            <a:off x="1619280" y="3429000"/>
            <a:ext cx="3921120" cy="259236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Text Box 2"/>
          <p:cNvSpPr/>
          <p:nvPr/>
        </p:nvSpPr>
        <p:spPr>
          <a:xfrm>
            <a:off x="0" y="28584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43466"/>
                </a:solidFill>
                <a:latin typeface="Tahoma"/>
              </a:rPr>
              <a:t>По данным Всемирной Организации Здравоохранения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43466"/>
                </a:solidFill>
                <a:latin typeface="Tahoma"/>
              </a:rPr>
              <a:t>ЕЖЕГОДНО  ОТ КУРЕНИЯ УМИРАЮ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 algn="ctr">
              <a:lnSpc>
                <a:spcPct val="100000"/>
              </a:lnSpc>
              <a:spcBef>
                <a:spcPts val="2001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ahoma"/>
              </a:rPr>
              <a:t>3 миллиона человек 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1"/>
          <a:stretch/>
        </p:blipFill>
        <p:spPr>
          <a:xfrm>
            <a:off x="-122400" y="-36360"/>
            <a:ext cx="9522000" cy="1633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2428920" y="1428840"/>
            <a:ext cx="4214880" cy="407196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3"/>
          <p:cNvSpPr/>
          <p:nvPr/>
        </p:nvSpPr>
        <p:spPr>
          <a:xfrm>
            <a:off x="0" y="5286240"/>
            <a:ext cx="931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Arial"/>
              </a:rPr>
              <a:t>Никогда  не  курите!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7772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2"/>
          <p:cNvSpPr/>
          <p:nvPr/>
        </p:nvSpPr>
        <p:spPr>
          <a:xfrm>
            <a:off x="3857760" y="1428840"/>
            <a:ext cx="482904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spcBef>
                <a:spcPts val="799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3" name="Picture 1" descr=""/>
          <p:cNvPicPr/>
          <p:nvPr/>
        </p:nvPicPr>
        <p:blipFill>
          <a:blip r:embed="rId2"/>
          <a:stretch/>
        </p:blipFill>
        <p:spPr>
          <a:xfrm>
            <a:off x="755640" y="1197000"/>
            <a:ext cx="7997760" cy="22194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"/>
          <p:cNvPicPr/>
          <p:nvPr/>
        </p:nvPicPr>
        <p:blipFill>
          <a:blip r:embed="rId3"/>
          <a:stretch/>
        </p:blipFill>
        <p:spPr>
          <a:xfrm>
            <a:off x="395280" y="357336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375" name="Прямоугольник 6"/>
          <p:cNvSpPr/>
          <p:nvPr/>
        </p:nvSpPr>
        <p:spPr>
          <a:xfrm>
            <a:off x="4067280" y="4005360"/>
            <a:ext cx="417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 Россию табак был завезён англичан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и немцами в начале 17 ве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1" descr=""/>
          <p:cNvPicPr/>
          <p:nvPr/>
        </p:nvPicPr>
        <p:blipFill>
          <a:blip r:embed="rId1"/>
          <a:stretch/>
        </p:blipFill>
        <p:spPr>
          <a:xfrm>
            <a:off x="30240" y="268200"/>
            <a:ext cx="9399600" cy="63086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2"/>
          <p:cNvSpPr/>
          <p:nvPr/>
        </p:nvSpPr>
        <p:spPr>
          <a:xfrm>
            <a:off x="457200" y="6143760"/>
            <a:ext cx="8229600" cy="1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4429080" y="571680"/>
            <a:ext cx="4429080" cy="578628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3"/>
          <p:cNvSpPr/>
          <p:nvPr/>
        </p:nvSpPr>
        <p:spPr>
          <a:xfrm>
            <a:off x="142920" y="642960"/>
            <a:ext cx="4325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543466"/>
                </a:solidFill>
                <a:latin typeface="Times New Roman"/>
              </a:rPr>
              <a:t>С приходом к власти Петра </a:t>
            </a:r>
            <a:r>
              <a:rPr b="1" lang="en-US" sz="3200" spc="-1" strike="noStrike">
                <a:solidFill>
                  <a:srgbClr val="543466"/>
                </a:solidFill>
                <a:latin typeface="Book Antiqua"/>
              </a:rPr>
              <a:t>I</a:t>
            </a:r>
            <a:r>
              <a:rPr b="1" lang="ru-RU" sz="3200" spc="-1" strike="noStrike">
                <a:solidFill>
                  <a:srgbClr val="543466"/>
                </a:solidFill>
                <a:latin typeface="Times New Roman"/>
              </a:rPr>
              <a:t> был отменён запрет на курение. Люди постепенно пристрастились к курению. Произошло это потому, что в состав табака входят вещества, способные вызвать зависимость от нег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1" descr=""/>
          <p:cNvPicPr/>
          <p:nvPr/>
        </p:nvPicPr>
        <p:blipFill>
          <a:blip r:embed="rId1"/>
          <a:stretch/>
        </p:blipFill>
        <p:spPr>
          <a:xfrm>
            <a:off x="414360" y="1206360"/>
            <a:ext cx="8265960" cy="156708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2"/>
          <p:cNvSpPr/>
          <p:nvPr/>
        </p:nvSpPr>
        <p:spPr>
          <a:xfrm>
            <a:off x="755640" y="2852640"/>
            <a:ext cx="777708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776160"/>
                <a:tab algn="l" pos="1690560"/>
                <a:tab algn="l" pos="2604960"/>
                <a:tab algn="l" pos="3519360"/>
                <a:tab algn="l" pos="4433760"/>
                <a:tab algn="l" pos="5348160"/>
                <a:tab algn="l" pos="6262560"/>
                <a:tab algn="l" pos="7176960"/>
                <a:tab algn="l" pos="8091360"/>
                <a:tab algn="l" pos="9005760"/>
                <a:tab algn="l" pos="9920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533ea9"/>
                </a:solidFill>
                <a:latin typeface="Arial"/>
              </a:rPr>
              <a:t>В целях снижения вредного воздействия табачного дыма запрещается курение табака на рабочих местах, в городском и пригородном транспорте, на воздушном транспорте при продолжительности полета менее трех часов, в закрытых спортивных сооружениях, организациях здравоохранения, организациях культуры, на территориях и в помещениях образовательных организаций,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324000" y="33336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едеральный зако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Б ОГРАНИЧЕНИИ КУРЕНИЯ ТАБАКА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457200" y="174600"/>
            <a:ext cx="82296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2"/>
          <p:cNvSpPr/>
          <p:nvPr/>
        </p:nvSpPr>
        <p:spPr>
          <a:xfrm>
            <a:off x="0" y="285840"/>
            <a:ext cx="9144000" cy="65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6120" indent="-409680">
              <a:lnSpc>
                <a:spcPct val="80000"/>
              </a:lnSpc>
              <a:spcBef>
                <a:spcPts val="924"/>
              </a:spcBef>
              <a:buClr>
                <a:srgbClr val="f9f9f9"/>
              </a:buClr>
              <a:buFont typeface="Wingdings 2" charset="2"/>
              <a:buChar char="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</a:rPr>
              <a:t> </a:t>
            </a:r>
            <a:r>
              <a:rPr b="1" lang="ru-RU" sz="3700" spc="-1" strike="noStrike">
                <a:solidFill>
                  <a:srgbClr val="c00000"/>
                </a:solidFill>
                <a:latin typeface="Arial Narrow"/>
              </a:rPr>
              <a:t>В дыме  сигарет содержится более 30 отравляющих организм человека веществ: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никотин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аммиак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угарный  газ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синильная  кислота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пиридин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метанол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формальдегид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lvl="1" marL="866880" indent="-28260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   </a:t>
            </a:r>
            <a:r>
              <a:rPr b="1" lang="ru-RU" sz="3700" spc="-1" strike="noStrike">
                <a:solidFill>
                  <a:srgbClr val="543466"/>
                </a:solidFill>
                <a:latin typeface="Arial Narrow"/>
                <a:ea typeface="Microsoft YaHei"/>
              </a:rPr>
              <a:t>- радиоактивные вещества: полоний, свинец, висмут, смолы, деготь и другие. 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  <a:p>
            <a:pPr marL="546120" indent="-409680">
              <a:lnSpc>
                <a:spcPct val="100000"/>
              </a:lnSpc>
              <a:spcBef>
                <a:spcPts val="924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1" descr=""/>
          <p:cNvPicPr/>
          <p:nvPr/>
        </p:nvPicPr>
        <p:blipFill>
          <a:blip r:embed="rId1"/>
          <a:stretch/>
        </p:blipFill>
        <p:spPr>
          <a:xfrm>
            <a:off x="450720" y="-36360"/>
            <a:ext cx="8242560" cy="1633320"/>
          </a:xfrm>
          <a:prstGeom prst="rect">
            <a:avLst/>
          </a:prstGeom>
          <a:ln w="0">
            <a:noFill/>
          </a:ln>
        </p:spPr>
      </p:pic>
      <p:sp>
        <p:nvSpPr>
          <p:cNvPr id="387" name="Text Box 2"/>
          <p:cNvSpPr/>
          <p:nvPr/>
        </p:nvSpPr>
        <p:spPr>
          <a:xfrm>
            <a:off x="0" y="142884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Курение загрязняет лёгки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Курение затрудняет проникновение  кислорода в организ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Курение затрудняет нормальную работу сердца, оно быстро изнашивае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От курения желтеют зуб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 </a:t>
            </a:r>
            <a:r>
              <a:rPr b="1" i="1" lang="ru-RU" sz="3200" spc="-1" strike="noStrike">
                <a:solidFill>
                  <a:srgbClr val="543466"/>
                </a:solidFill>
                <a:latin typeface="Arial Narrow"/>
              </a:rPr>
              <a:t>появляется дурной запах  во р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 Narrow"/>
              </a:rPr>
              <a:t>*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Каждая сигарета отнимает от 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    </a:t>
            </a: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 Narrow"/>
              </a:rPr>
              <a:t>до 15 минут жиз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09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8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2286000" cy="21448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-825480"/>
            <a:ext cx="82296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214200" y="2928960"/>
            <a:ext cx="4143600" cy="3571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4714920" y="2928960"/>
            <a:ext cx="4125960" cy="351792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 flipH="1">
            <a:off x="4497120" y="1357200"/>
            <a:ext cx="4680" cy="5216760"/>
          </a:xfrm>
          <a:prstGeom prst="line">
            <a:avLst/>
          </a:prstGeom>
          <a:ln cap="sq" w="63360">
            <a:solidFill>
              <a:srgbClr val="5434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0" y="13572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Лёгкие здорового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челове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5294520" y="1357200"/>
            <a:ext cx="312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Лёгки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7e4e99"/>
                </a:solidFill>
                <a:latin typeface="Times New Roman"/>
              </a:rPr>
              <a:t>курильщик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2920" y="285840"/>
            <a:ext cx="908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Больше всего от курения страдают лёгкие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1" descr=""/>
          <p:cNvPicPr/>
          <p:nvPr/>
        </p:nvPicPr>
        <p:blipFill>
          <a:blip r:embed="rId1"/>
          <a:stretch/>
        </p:blipFill>
        <p:spPr>
          <a:xfrm>
            <a:off x="-244440" y="-30240"/>
            <a:ext cx="9948960" cy="1457280"/>
          </a:xfrm>
          <a:prstGeom prst="rect">
            <a:avLst/>
          </a:prstGeom>
          <a:ln w="0">
            <a:noFill/>
          </a:ln>
        </p:spPr>
      </p:pic>
      <p:sp>
        <p:nvSpPr>
          <p:cNvPr id="397" name="Прямоугольник 4"/>
          <p:cNvSpPr/>
          <p:nvPr/>
        </p:nvSpPr>
        <p:spPr>
          <a:xfrm>
            <a:off x="250920" y="1197000"/>
            <a:ext cx="84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и пассивном курении люди получают дозу так называемого бокового дыма. При этом при пассивном и активном курении в организм попадают практически одни и те же вещества, нахождение (особенно долговременное) в клубах дыма рядом с курящими людьми может привести к тем же неприятным последствиям, что и активное кур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Прямоугольник 5"/>
          <p:cNvSpPr/>
          <p:nvPr/>
        </p:nvSpPr>
        <p:spPr>
          <a:xfrm>
            <a:off x="324000" y="2997360"/>
            <a:ext cx="835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ассивное курение может приводить к усугублению аллергии, всевозможным ЛОР-патологиям, патологиям сердца и сосудов, развитию хронической болезни легких и увеличению риска онкологических заболеваний. Чаще всего злокачественные образования локализуются в молочных железах, легких и почках. Чтобы избежать таких последствий, необходимо избегать нахождения в курящих компаниях и прокуренных помещен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17:50:33Z</dcterms:created>
  <dc:creator>к</dc:creator>
  <dc:description/>
  <dc:language>en-US</dc:language>
  <cp:lastModifiedBy>Пользователь Windows</cp:lastModifiedBy>
  <cp:lastPrinted>2013-11-12T06:06:46Z</cp:lastPrinted>
  <dcterms:modified xsi:type="dcterms:W3CDTF">2021-10-28T07:04:16Z</dcterms:modified>
  <cp:revision>71</cp:revision>
  <dc:subject/>
  <dc:title>О  вреде курения</dc:title>
</cp:coreProperties>
</file>